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4E03-4AF3-4607-90E8-E62CA10ADB2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369D-82F6-4118-ABB9-2BB1CCFD5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0D2E-46A8-4F1B-A6A2-73623388336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1D46-D41E-4737-8167-D12C8B27D73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0EFE-DA54-401F-9444-069E035E50F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3974-F91C-43C7-9D40-8ADE99AC5BA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4CB4-3AE4-4386-B043-3D77836D5B7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4106-E32F-45E1-9FED-994644A9684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3A74-494E-4D16-931C-5397219BCF9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A1CD-7F55-499F-A576-208452192AB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8C89-FFBB-4FA1-A18A-F1AA97DF2E6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15F4-07E9-44C0-8A95-424B6224BD1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C5FC-65E9-4F7E-B23E-27352D560F2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B6D0-C506-49D1-9ECF-1E128C795BA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3D82-D058-40A6-8489-2F64FFD68E8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9373-5C0B-4793-8E4C-A8769C53990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757E-C883-43CD-A55C-DB26F3CB559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6891-64D6-4874-89B6-18BFCC1EDC1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4698-4671-489C-B66C-E939BFE2A90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73DC-3215-43A5-B0F1-A94550B7D42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9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737f39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" name="Group 17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sp>
            <p:nvSpPr>
              <p:cNvPr id="3" name="Rectangle 13"/>
              <p:cNvSpPr/>
              <p:nvPr/>
            </p:nvSpPr>
            <p:spPr>
              <a:xfrm>
                <a:off x="0" y="0"/>
                <a:ext cx="1371600" cy="6858000"/>
              </a:xfrm>
              <a:prstGeom prst="rect">
                <a:avLst/>
              </a:prstGeom>
              <a:gradFill rotWithShape="0">
                <a:gsLst>
                  <a:gs pos="0">
                    <a:srgbClr val="e3c16b"/>
                  </a:gs>
                  <a:gs pos="100000">
                    <a:srgbClr val="48301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4" name="Pictur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37160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Line 15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" name="Rectangle 10"/>
          <p:cNvSpPr/>
          <p:nvPr/>
        </p:nvSpPr>
        <p:spPr>
          <a:xfrm>
            <a:off x="1371600" y="1447920"/>
            <a:ext cx="762012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1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525a28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" name="Group 18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grpSp>
            <p:nvGrpSpPr>
              <p:cNvPr id="48" name="Group 17"/>
              <p:cNvGrpSpPr/>
              <p:nvPr/>
            </p:nvGrpSpPr>
            <p:grpSpPr>
              <a:xfrm>
                <a:off x="0" y="0"/>
                <a:ext cx="1371600" cy="6858000"/>
                <a:chOff x="0" y="0"/>
                <a:chExt cx="1371600" cy="6858000"/>
              </a:xfrm>
            </p:grpSpPr>
            <p:sp>
              <p:nvSpPr>
                <p:cNvPr id="49" name="Rectangle 15"/>
                <p:cNvSpPr/>
                <p:nvPr/>
              </p:nvSpPr>
              <p:spPr>
                <a:xfrm>
                  <a:off x="0" y="0"/>
                  <a:ext cx="1371600" cy="685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e3c16b"/>
                    </a:gs>
                    <a:gs pos="100000">
                      <a:srgbClr val="483018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pic>
              <p:nvPicPr>
                <p:cNvPr id="50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371600" cy="1447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1" name="Line 10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1676160"/>
            <a:ext cx="723888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e3c16b"/>
                </a:solidFill>
                <a:latin typeface="Times New Roman"/>
              </a:rPr>
              <a:t>Français 3</a:t>
            </a:r>
            <a:endParaRPr b="0" lang="en-US" sz="48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7400" y="28954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çon 1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Va au…!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à la…!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à l’…!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aux…!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8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24" name="Picture 6" descr="BANQUE-POPULAIRE-001"/>
          <p:cNvPicPr/>
          <p:nvPr/>
        </p:nvPicPr>
        <p:blipFill>
          <a:blip r:embed="rId1"/>
          <a:stretch/>
        </p:blipFill>
        <p:spPr>
          <a:xfrm>
            <a:off x="304920" y="1066680"/>
            <a:ext cx="8305560" cy="55897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8"/>
          <p:cNvSpPr/>
          <p:nvPr/>
        </p:nvSpPr>
        <p:spPr>
          <a:xfrm>
            <a:off x="2590920" y="3581280"/>
            <a:ext cx="236196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1600200" y="19080"/>
            <a:ext cx="6858000" cy="11912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1: Je vais prendre de 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rgent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2: Va…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9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28" name="Picture 6" descr="LaPoste"/>
          <p:cNvPicPr/>
          <p:nvPr/>
        </p:nvPicPr>
        <p:blipFill>
          <a:blip r:embed="rId1"/>
          <a:stretch/>
        </p:blipFill>
        <p:spPr>
          <a:xfrm>
            <a:off x="1066680" y="990720"/>
            <a:ext cx="7086600" cy="47196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8"/>
          <p:cNvSpPr/>
          <p:nvPr/>
        </p:nvSpPr>
        <p:spPr>
          <a:xfrm>
            <a:off x="3352680" y="2057400"/>
            <a:ext cx="1905120" cy="685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600200" y="19080"/>
            <a:ext cx="6400800" cy="17398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1: Je vais envoyer une lettre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2: Va…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0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32" name="Picture 5" descr="MPj04065610000[1]"/>
          <p:cNvPicPr/>
          <p:nvPr/>
        </p:nvPicPr>
        <p:blipFill>
          <a:blip r:embed="rId1"/>
          <a:stretch/>
        </p:blipFill>
        <p:spPr>
          <a:xfrm>
            <a:off x="457200" y="1219320"/>
            <a:ext cx="8305920" cy="55371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3"/>
          <p:cNvSpPr/>
          <p:nvPr/>
        </p:nvSpPr>
        <p:spPr>
          <a:xfrm>
            <a:off x="1600200" y="19080"/>
            <a:ext cx="7162920" cy="11912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1: Je vais faire de la natation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2: Va…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Révisons!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36" name="Picture 5" descr="MPj04000710000[1]"/>
          <p:cNvPicPr/>
          <p:nvPr/>
        </p:nvPicPr>
        <p:blipFill>
          <a:blip r:embed="rId1"/>
          <a:stretch/>
        </p:blipFill>
        <p:spPr>
          <a:xfrm>
            <a:off x="914400" y="990720"/>
            <a:ext cx="7391520" cy="59115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3"/>
          <p:cNvSpPr/>
          <p:nvPr/>
        </p:nvSpPr>
        <p:spPr>
          <a:xfrm>
            <a:off x="1600200" y="19080"/>
            <a:ext cx="6400800" cy="17398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1: Je vais partir en vacances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2: Va…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Box 1"/>
          <p:cNvSpPr/>
          <p:nvPr/>
        </p:nvSpPr>
        <p:spPr>
          <a:xfrm>
            <a:off x="3048120" y="5257800"/>
            <a:ext cx="297180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ahoma"/>
              </a:rPr>
              <a:t>à la gar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40" name="Picture 5" descr="MPj04004630000[1]"/>
          <p:cNvPicPr/>
          <p:nvPr/>
        </p:nvPicPr>
        <p:blipFill>
          <a:blip r:embed="rId1"/>
          <a:stretch/>
        </p:blipFill>
        <p:spPr>
          <a:xfrm>
            <a:off x="457200" y="1295280"/>
            <a:ext cx="8346960" cy="55627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3"/>
          <p:cNvSpPr/>
          <p:nvPr/>
        </p:nvSpPr>
        <p:spPr>
          <a:xfrm>
            <a:off x="1600200" y="19080"/>
            <a:ext cx="6400800" cy="11912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1: Je vais faire du camping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2: Va…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1371600" y="5418000"/>
            <a:ext cx="701028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ahoma"/>
              </a:rPr>
              <a:t>au terrain de camping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44" name="Picture 5" descr="MPj04071360000[1]"/>
          <p:cNvPicPr/>
          <p:nvPr/>
        </p:nvPicPr>
        <p:blipFill>
          <a:blip r:embed="rId1"/>
          <a:stretch/>
        </p:blipFill>
        <p:spPr>
          <a:xfrm>
            <a:off x="1143000" y="914400"/>
            <a:ext cx="7143840" cy="57150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3"/>
          <p:cNvSpPr/>
          <p:nvPr/>
        </p:nvSpPr>
        <p:spPr>
          <a:xfrm>
            <a:off x="1600200" y="19080"/>
            <a:ext cx="6400800" cy="17398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1: Je vais aller à un mariage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2: Va…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2666880" y="5494320"/>
            <a:ext cx="4267440" cy="155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ahoma"/>
              </a:rPr>
              <a:t>à la cathédral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48" name="Picture 5" descr="MPj04024190000[1]"/>
          <p:cNvPicPr/>
          <p:nvPr/>
        </p:nvPicPr>
        <p:blipFill>
          <a:blip r:embed="rId1"/>
          <a:stretch/>
        </p:blipFill>
        <p:spPr>
          <a:xfrm>
            <a:off x="304920" y="1143000"/>
            <a:ext cx="8610480" cy="57355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3"/>
          <p:cNvSpPr/>
          <p:nvPr/>
        </p:nvSpPr>
        <p:spPr>
          <a:xfrm>
            <a:off x="1600200" y="19080"/>
            <a:ext cx="6629400" cy="11912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1: Je vais voir des sculptures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2: Va…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3048120" y="5257800"/>
            <a:ext cx="2971800" cy="155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ahoma"/>
              </a:rPr>
              <a:t>au musé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52" name="Picture 6" descr="sursade%20Lycee%20Louis%20Le%20Grand"/>
          <p:cNvPicPr/>
          <p:nvPr/>
        </p:nvPicPr>
        <p:blipFill>
          <a:blip r:embed="rId1"/>
          <a:stretch/>
        </p:blipFill>
        <p:spPr>
          <a:xfrm>
            <a:off x="1600200" y="990720"/>
            <a:ext cx="6248520" cy="468612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8"/>
          <p:cNvSpPr/>
          <p:nvPr/>
        </p:nvSpPr>
        <p:spPr>
          <a:xfrm>
            <a:off x="3352680" y="1828800"/>
            <a:ext cx="1067040" cy="609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1600200" y="19080"/>
            <a:ext cx="6400800" cy="17398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1: Je vais passer un examen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2: Va…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3048120" y="5342040"/>
            <a:ext cx="297180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ahoma"/>
              </a:rPr>
              <a:t>au lycé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57" name="Picture 6" descr="Auberge"/>
          <p:cNvPicPr/>
          <p:nvPr/>
        </p:nvPicPr>
        <p:blipFill>
          <a:blip r:embed="rId1"/>
          <a:stretch/>
        </p:blipFill>
        <p:spPr>
          <a:xfrm>
            <a:off x="1752480" y="91440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8"/>
          <p:cNvSpPr/>
          <p:nvPr/>
        </p:nvSpPr>
        <p:spPr>
          <a:xfrm>
            <a:off x="1676520" y="4800600"/>
            <a:ext cx="1904760" cy="685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1600200" y="19080"/>
            <a:ext cx="7010280" cy="11912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1: Je vais voyager en Europe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2: Va…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1219320" y="5646600"/>
            <a:ext cx="746748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ahoma"/>
              </a:rPr>
              <a:t>à l’ auberge de jeuness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ALLER À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525a28"/>
                </a:solidFill>
                <a:latin typeface="Times New Roman"/>
              </a:rPr>
              <a:t>Contexte: 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Vos amis vont passer un weekend très occupé en faisant plusieurs activités différentes. Mais ils ne sont pas sûrs où il faut aller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525a28"/>
                </a:solidFill>
                <a:latin typeface="Times New Roman"/>
              </a:rPr>
              <a:t>Tâche: 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Dites à votre ami(e) OÙ il faut aller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8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62" name="Picture 6" descr="BANQUE-POPULAIRE-001"/>
          <p:cNvPicPr/>
          <p:nvPr/>
        </p:nvPicPr>
        <p:blipFill>
          <a:blip r:embed="rId1"/>
          <a:stretch/>
        </p:blipFill>
        <p:spPr>
          <a:xfrm>
            <a:off x="304920" y="1066680"/>
            <a:ext cx="8305560" cy="55897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8"/>
          <p:cNvSpPr/>
          <p:nvPr/>
        </p:nvSpPr>
        <p:spPr>
          <a:xfrm>
            <a:off x="2590920" y="3581280"/>
            <a:ext cx="236196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Box 4"/>
          <p:cNvSpPr/>
          <p:nvPr/>
        </p:nvSpPr>
        <p:spPr>
          <a:xfrm>
            <a:off x="1600200" y="19080"/>
            <a:ext cx="6858000" cy="11912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1: Je vais prendre de 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rgent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2: Va…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2362320" y="5418000"/>
            <a:ext cx="396216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ahoma"/>
              </a:rPr>
              <a:t>à la banqu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9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67" name="Picture 6" descr="LaPoste"/>
          <p:cNvPicPr/>
          <p:nvPr/>
        </p:nvPicPr>
        <p:blipFill>
          <a:blip r:embed="rId1"/>
          <a:stretch/>
        </p:blipFill>
        <p:spPr>
          <a:xfrm>
            <a:off x="1066680" y="990720"/>
            <a:ext cx="7086600" cy="47196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8"/>
          <p:cNvSpPr/>
          <p:nvPr/>
        </p:nvSpPr>
        <p:spPr>
          <a:xfrm>
            <a:off x="3352680" y="2057400"/>
            <a:ext cx="1905120" cy="685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1600200" y="19080"/>
            <a:ext cx="6400800" cy="17398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1: Je vais envoyer une lettre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2: Va…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Box 5"/>
          <p:cNvSpPr/>
          <p:nvPr/>
        </p:nvSpPr>
        <p:spPr>
          <a:xfrm>
            <a:off x="3048120" y="5257800"/>
            <a:ext cx="297180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ahoma"/>
              </a:rPr>
              <a:t>à la post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0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72" name="Picture 5" descr="MPj04065610000[1]"/>
          <p:cNvPicPr/>
          <p:nvPr/>
        </p:nvPicPr>
        <p:blipFill>
          <a:blip r:embed="rId1"/>
          <a:stretch/>
        </p:blipFill>
        <p:spPr>
          <a:xfrm>
            <a:off x="457200" y="1219320"/>
            <a:ext cx="8305920" cy="5537160"/>
          </a:xfrm>
          <a:prstGeom prst="rect">
            <a:avLst/>
          </a:prstGeom>
          <a:ln w="0">
            <a:noFill/>
          </a:ln>
        </p:spPr>
      </p:pic>
      <p:sp>
        <p:nvSpPr>
          <p:cNvPr id="173" name="TextBox 3"/>
          <p:cNvSpPr/>
          <p:nvPr/>
        </p:nvSpPr>
        <p:spPr>
          <a:xfrm>
            <a:off x="1600200" y="19080"/>
            <a:ext cx="7162920" cy="11912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1: Je vais faire de la natation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2: Va…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Box 4"/>
          <p:cNvSpPr/>
          <p:nvPr/>
        </p:nvSpPr>
        <p:spPr>
          <a:xfrm>
            <a:off x="2438280" y="5257800"/>
            <a:ext cx="434340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ahoma"/>
              </a:rPr>
              <a:t>à la piscin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Révisons!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ez une fiche d’activité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Classez les endroits selon les règles du genre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Au travail!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Allons-y!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04" name="Picture 5" descr="MPj04000710000[1]"/>
          <p:cNvPicPr/>
          <p:nvPr/>
        </p:nvPicPr>
        <p:blipFill>
          <a:blip r:embed="rId1"/>
          <a:stretch/>
        </p:blipFill>
        <p:spPr>
          <a:xfrm>
            <a:off x="914400" y="990720"/>
            <a:ext cx="7391520" cy="59115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1600200" y="19080"/>
            <a:ext cx="6400800" cy="17398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1: Je vais partir en vacances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2: Va…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07" name="Picture 5" descr="MPj04004630000[1]"/>
          <p:cNvPicPr/>
          <p:nvPr/>
        </p:nvPicPr>
        <p:blipFill>
          <a:blip r:embed="rId1"/>
          <a:stretch/>
        </p:blipFill>
        <p:spPr>
          <a:xfrm>
            <a:off x="457200" y="1295280"/>
            <a:ext cx="8346960" cy="55627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3"/>
          <p:cNvSpPr/>
          <p:nvPr/>
        </p:nvSpPr>
        <p:spPr>
          <a:xfrm>
            <a:off x="1600200" y="19080"/>
            <a:ext cx="6400800" cy="11912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1: Je vais faire du camping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2: Va…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10" name="Picture 5" descr="MPj04071360000[1]"/>
          <p:cNvPicPr/>
          <p:nvPr/>
        </p:nvPicPr>
        <p:blipFill>
          <a:blip r:embed="rId1"/>
          <a:stretch/>
        </p:blipFill>
        <p:spPr>
          <a:xfrm>
            <a:off x="1143000" y="914400"/>
            <a:ext cx="714384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3"/>
          <p:cNvSpPr/>
          <p:nvPr/>
        </p:nvSpPr>
        <p:spPr>
          <a:xfrm>
            <a:off x="1600200" y="19080"/>
            <a:ext cx="6400800" cy="17398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1: Je vais aller à un mariage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2: Va…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13" name="Picture 5" descr="MPj04024190000[1]"/>
          <p:cNvPicPr/>
          <p:nvPr/>
        </p:nvPicPr>
        <p:blipFill>
          <a:blip r:embed="rId1"/>
          <a:stretch/>
        </p:blipFill>
        <p:spPr>
          <a:xfrm>
            <a:off x="304920" y="1143000"/>
            <a:ext cx="8610480" cy="5735520"/>
          </a:xfrm>
          <a:prstGeom prst="rect">
            <a:avLst/>
          </a:prstGeom>
          <a:ln w="0">
            <a:noFill/>
          </a:ln>
        </p:spPr>
      </p:pic>
      <p:sp>
        <p:nvSpPr>
          <p:cNvPr id="114" name="TextBox 3"/>
          <p:cNvSpPr/>
          <p:nvPr/>
        </p:nvSpPr>
        <p:spPr>
          <a:xfrm>
            <a:off x="1600200" y="19080"/>
            <a:ext cx="6629400" cy="11912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1: Je vais voir des sculptures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2: Va…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16" name="Picture 6" descr="sursade%20Lycee%20Louis%20Le%20Grand"/>
          <p:cNvPicPr/>
          <p:nvPr/>
        </p:nvPicPr>
        <p:blipFill>
          <a:blip r:embed="rId1"/>
          <a:stretch/>
        </p:blipFill>
        <p:spPr>
          <a:xfrm>
            <a:off x="1600200" y="990720"/>
            <a:ext cx="6248520" cy="46861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3352680" y="1828800"/>
            <a:ext cx="1067040" cy="609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1600200" y="19080"/>
            <a:ext cx="6400800" cy="17398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1: Je vais passer un examen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2: Va…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20" name="Picture 6" descr="Auberge"/>
          <p:cNvPicPr/>
          <p:nvPr/>
        </p:nvPicPr>
        <p:blipFill>
          <a:blip r:embed="rId1"/>
          <a:stretch/>
        </p:blipFill>
        <p:spPr>
          <a:xfrm>
            <a:off x="1752480" y="91440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8"/>
          <p:cNvSpPr/>
          <p:nvPr/>
        </p:nvSpPr>
        <p:spPr>
          <a:xfrm>
            <a:off x="1676520" y="4800600"/>
            <a:ext cx="1904760" cy="685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1600200" y="19080"/>
            <a:ext cx="7010280" cy="11912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1: Je vais voyager en Europe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2: Va…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Edouard Smith</cp:lastModifiedBy>
  <dcterms:modified xsi:type="dcterms:W3CDTF">2013-09-19T00:43:13Z</dcterms:modified>
  <cp:revision>99</cp:revision>
  <dc:subject/>
  <dc:title>Allez, viens! – Level 2</dc:title>
</cp:coreProperties>
</file>